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208E-E866-49DC-895C-5E1293E1C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429E-0EAB-450B-A308-41F555CAF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9382-5662-4282-88C5-13590342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F26C-4303-43D6-95E6-71BA01BD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42DA-829E-4F1E-A2B5-9CF369F69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06B5-91B6-474F-B78B-81BACF169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5C5-D22B-4DD1-8723-59D417A5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1DB-226D-4E09-B682-180FDC34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CCD-FA16-4D21-B875-12000752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6A9-7330-499D-9C4E-30379459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9DD1-FCF3-4E62-8C38-B2951D65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9B51-94DD-4F01-A56D-B72063C2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2B4D-C1A9-498E-9E96-C750A7A1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7463-AE07-4F67-87B5-334C7850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A287-F998-4C2D-97AB-C8F245FF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E494-CB27-4DDA-921B-AE14C561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2450-DAD9-46AD-9C67-13D98FBA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377-1472-4439-96C5-DC8A0F68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207A-0C8D-49B0-AEB3-C725A95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6DBE-4340-4C55-84B8-4B9EBCB3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51DE-50E1-494E-88F7-E08D6EEE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EC8D-FCDE-45D0-A97B-D35D77D5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F574-462D-4A8F-BCA6-51FAC940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6D1-5A5F-4700-B13E-8CAAD928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A67-955C-4E23-B4D6-56CF8FC0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0A2-B054-43F4-85CC-085249F0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CF6-A843-4FE4-B1E0-8FA805F0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C11-E259-4D58-92E7-945FE3D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D9A-0EAD-46A5-9411-D4427080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870-3E22-4E9C-B9BC-0A51A14A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FFE1-6048-4EA3-8998-5F7099021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29FE-2ACF-4EEC-B89E-AE05E523D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What is the PAR process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240" y="6095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r. Marina Stock McIsaac - Arizona State Univers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act_res"/>
          <p:cNvPicPr/>
          <p:nvPr/>
        </p:nvPicPr>
        <p:blipFill>
          <a:blip r:embed="rId1"/>
          <a:stretch/>
        </p:blipFill>
        <p:spPr>
          <a:xfrm>
            <a:off x="2895480" y="2209680"/>
            <a:ext cx="32767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ction Research Cycle </a:t>
            </a:r>
            <a:br>
              <a:rPr sz="44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(write this title on top of page ___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733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the problem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What is the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 want to answe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3.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ays to get the answ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892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52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631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D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eld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mprove 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r understa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From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wer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aginative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what to do to change and impr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6. Ac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t ideas into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581280" y="533520"/>
            <a:ext cx="254016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240336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2477880" cy="1861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8"/>
          <p:cNvSpPr/>
          <p:nvPr/>
        </p:nvSpPr>
        <p:spPr>
          <a:xfrm>
            <a:off x="114300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                              5.                             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PAR cyc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Picture 5" descr="Fig-A"/>
          <p:cNvPicPr/>
          <p:nvPr/>
        </p:nvPicPr>
        <p:blipFill>
          <a:blip r:embed="rId1"/>
          <a:srcRect l="0" t="0" r="0" b="9768"/>
          <a:stretch/>
        </p:blipFill>
        <p:spPr>
          <a:xfrm>
            <a:off x="1523880" y="1600200"/>
            <a:ext cx="645948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2362320" y="5867280"/>
            <a:ext cx="59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6316"/>
                </a:solidFill>
                <a:latin typeface="Arial"/>
              </a:rPr>
              <a:t>From: Yoland Wadsworth </a:t>
            </a:r>
            <a:r>
              <a:rPr b="0" lang="en-US" sz="1600" spc="-1" strike="noStrike">
                <a:solidFill>
                  <a:srgbClr val="2e6316"/>
                </a:solidFill>
                <a:latin typeface="Arial"/>
              </a:rPr>
              <a:t>What is Participatory Action Research? November 199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562720" y="2819520"/>
            <a:ext cx="1904760" cy="1008720"/>
          </a:xfrm>
          <a:prstGeom prst="rect">
            <a:avLst/>
          </a:prstGeom>
          <a:solidFill>
            <a:srgbClr val="e689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 &amp; reflect on current sit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562720" y="1523880"/>
            <a:ext cx="1295280" cy="703800"/>
          </a:xfrm>
          <a:prstGeom prst="rect">
            <a:avLst/>
          </a:prstGeom>
          <a:solidFill>
            <a:srgbClr val="c9b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ise a ques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048120" y="1828800"/>
            <a:ext cx="1752480" cy="580680"/>
          </a:xfrm>
          <a:prstGeom prst="rect">
            <a:avLst/>
          </a:prstGeom>
          <a:solidFill>
            <a:srgbClr val="c9b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to seek answ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371600" y="2819520"/>
            <a:ext cx="2971800" cy="1054080"/>
          </a:xfrm>
          <a:prstGeom prst="rect">
            <a:avLst/>
          </a:prstGeom>
          <a:solidFill>
            <a:srgbClr val="c9b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eldwork”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tensive seeking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f answe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276720" y="4191120"/>
            <a:ext cx="1600200" cy="703800"/>
          </a:xfrm>
          <a:prstGeom prst="rect">
            <a:avLst/>
          </a:prstGeom>
          <a:solidFill>
            <a:srgbClr val="c9b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ion (analys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638680" y="4038480"/>
            <a:ext cx="1752840" cy="703800"/>
          </a:xfrm>
          <a:prstGeom prst="rect">
            <a:avLst/>
          </a:prstGeom>
          <a:solidFill>
            <a:srgbClr val="c9b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 of new 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2 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48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828"/>
                </a:solidFill>
                <a:latin typeface="Times New Roman"/>
              </a:rPr>
              <a:t>How can we get more youth job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d48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828"/>
                </a:solidFill>
                <a:latin typeface="Times New Roman"/>
              </a:rPr>
              <a:t>How do we stop the MBTA from raising pr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d48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828"/>
                </a:solidFill>
                <a:latin typeface="Times New Roman"/>
              </a:rPr>
              <a:t>How can we get sex education into our scho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d48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828"/>
                </a:solidFill>
                <a:latin typeface="Times New Roman"/>
              </a:rPr>
              <a:t>How can we get youth to eat healthi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339732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51316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4 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Video/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Participant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855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552f"/>
                </a:solidFill>
                <a:latin typeface="Times New Roman"/>
              </a:rPr>
              <a:t>Use of data from publishe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065400" y="5943600"/>
            <a:ext cx="4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vantages of Metho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feelings of participant owner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likelihood that data will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nts develop skills and confidence; feel empowe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4470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 successful PAR project needs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ing relationships among members must be develo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about research methods, data collection, and analysis must be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organizational structure to support the work t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iable facilitator to coordinate th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ntent Placeholder 3"/>
          <p:cNvSpPr/>
          <p:nvPr/>
        </p:nvSpPr>
        <p:spPr>
          <a:xfrm>
            <a:off x="304920" y="167652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Guest organizers and I will supply the training.) (YOUR attendance is a MUST!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Stro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acilitators will receive extra credit)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8:10:21Z</dcterms:created>
  <dc:creator/>
  <dc:description/>
  <dc:language>en-US</dc:language>
  <cp:lastModifiedBy>Teacher</cp:lastModifiedBy>
  <dcterms:modified xsi:type="dcterms:W3CDTF">2012-01-30T11:14:14Z</dcterms:modified>
  <cp:revision>75</cp:revision>
  <dc:subject/>
  <dc:title>Conducting Research:Proposal for Action Research</dc:title>
</cp:coreProperties>
</file>